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000000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8070A-174C-44ED-9AE9-F33AC85A2E8A}" type="slidenum"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th-TH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61C5-71EF-4797-BF6D-B29A16655D47}" type="slidenum">
              <a:rPr b="0" lang="th-TH" sz="1200" spc="-1" strike="noStrike">
                <a:solidFill>
                  <a:srgbClr val="000000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0D1E-3D90-4FCC-882D-94DFEEC07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2C55-D5F3-4A21-988F-5F151D62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1BCC-2ED0-4149-8EF8-1908A1173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F4208-CA00-4E70-B57C-90D8CAF65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016F-E2CF-4B4A-8070-DB4C7AE63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3BFD3-506B-4A0B-9B07-002C67B32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17D7-438C-4F98-8D68-EFF3E783E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D69D9-78AD-4FD8-AA8E-02E5D53E3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635F-6F52-4A67-BA94-2732B2553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828C-1543-4047-A62F-44EBA1A08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0D4D-FA31-414A-BFF0-5C8E17D14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F1326-E3DB-4CAD-99F7-CE348B2A1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h-TH" sz="1200" spc="-1" strike="noStrike">
                <a:solidFill>
                  <a:srgbClr val="898989"/>
                </a:solidFill>
                <a:latin typeface="Calibri"/>
                <a:ea typeface="Cordia Ne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CA68F-117F-4540-B6F2-6994B4132EDB}" type="slidenum">
              <a:rPr b="0" lang="th-TH" sz="1200" spc="-1" strike="noStrike">
                <a:solidFill>
                  <a:srgbClr val="898989"/>
                </a:solidFill>
                <a:latin typeface="Calibri"/>
                <a:ea typeface="Cordia New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35280" y="31827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9600" spc="-1" strike="noStrike">
                <a:solidFill>
                  <a:srgbClr val="ffffff"/>
                </a:solidFill>
                <a:latin typeface="Angsana New"/>
              </a:rPr>
              <a:t>อิเหนา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050920" y="414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ffffff"/>
                </a:solidFill>
                <a:latin typeface="Angsana New"/>
                <a:cs typeface="Angsana New"/>
              </a:rPr>
              <a:t>ตอนศึกกะหมังกุหนิง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รูปภาพ 2" descr=""/>
          <p:cNvPicPr/>
          <p:nvPr/>
        </p:nvPicPr>
        <p:blipFill>
          <a:blip r:embed="rId1"/>
          <a:stretch/>
        </p:blipFill>
        <p:spPr>
          <a:xfrm>
            <a:off x="1920960" y="927000"/>
            <a:ext cx="2101680" cy="3870360"/>
          </a:xfrm>
          <a:prstGeom prst="rect">
            <a:avLst/>
          </a:prstGeom>
          <a:ln w="0">
            <a:noFill/>
          </a:ln>
        </p:spPr>
      </p:pic>
    </p:spTree>
  </p:cSld>
  <p:transition spd="slow">
    <p:randomBa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720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ffffff"/>
                </a:solidFill>
                <a:latin typeface="Angsana New"/>
              </a:rPr>
              <a:t>วิเคราะห์คุณค่าด้านเนื้อห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2" name="Content Placeholder 2"/>
          <p:cNvGrpSpPr/>
          <p:nvPr/>
        </p:nvGrpSpPr>
        <p:grpSpPr>
          <a:xfrm>
            <a:off x="628560" y="1463760"/>
            <a:ext cx="7693200" cy="4449600"/>
            <a:chOff x="628560" y="1463760"/>
            <a:chExt cx="7693200" cy="4449600"/>
          </a:xfrm>
        </p:grpSpPr>
        <p:pic>
          <p:nvPicPr>
            <p:cNvPr id="53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628560" y="1463760"/>
              <a:ext cx="7693200" cy="444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26920" y="1557360"/>
              <a:ext cx="73123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ffffff"/>
                  </a:solidFill>
                  <a:latin typeface="Angsana New"/>
                </a:rPr>
                <a:t>๏ </a:t>
              </a:r>
              <a:r>
                <a:rPr b="1" lang="th-TH" sz="3200" spc="-1" strike="noStrike" u="sng">
                  <a:solidFill>
                    <a:srgbClr val="ffffff"/>
                  </a:solidFill>
                  <a:uFillTx/>
                  <a:latin typeface="Angsana New"/>
                </a:rPr>
                <a:t>โ</a:t>
              </a:r>
              <a:r>
                <a:rPr b="0" lang="th-TH" sz="3200" spc="-1" strike="noStrike" u="sng">
                  <a:solidFill>
                    <a:srgbClr val="ffffff"/>
                  </a:solidFill>
                  <a:uFillTx/>
                  <a:latin typeface="Calibri"/>
                </a:rPr>
                <a:t>ครงเรื่อง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-</a:t>
              </a:r>
              <a:r>
                <a:rPr b="1" lang="th-TH" sz="3200" spc="-1" strike="noStrike">
                  <a:solidFill>
                    <a:srgbClr val="ffffff"/>
                  </a:solidFill>
                  <a:latin typeface="Calibri"/>
                </a:rPr>
                <a:t>แนวคิด </a:t>
              </a:r>
              <a:r>
                <a:rPr b="1" lang="th-TH" sz="3200" spc="-1" strike="noStrike">
                  <a:solidFill>
                    <a:srgbClr val="ffffff"/>
                  </a:solidFill>
                  <a:latin typeface="Calibri"/>
                </a:rPr>
                <a:t>: </a:t>
              </a:r>
              <a:r>
                <a:rPr b="0" lang="th-TH" sz="3200" spc="-1" strike="noStrike">
                  <a:solidFill>
                    <a:srgbClr val="ffffff"/>
                  </a:solidFill>
                  <a:latin typeface="Calibri"/>
                </a:rPr>
                <a:t>เป็นเรื่องที่แสดงให้เห็นถึงความรักของพ่อที่มีต่อลูก รักและตามใจทุกอย่าง แม้กระทั่งตัวตา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-</a:t>
              </a:r>
              <a:r>
                <a:rPr b="1" lang="th-TH" sz="3200" spc="-1" strike="noStrike">
                  <a:solidFill>
                    <a:srgbClr val="ffffff"/>
                  </a:solidFill>
                  <a:latin typeface="Calibri"/>
                </a:rPr>
                <a:t>ฉาก</a:t>
              </a:r>
              <a:r>
                <a:rPr b="0" lang="th-TH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th-TH" sz="3200" spc="-1" strike="noStrike">
                  <a:solidFill>
                    <a:srgbClr val="ffffff"/>
                  </a:solidFill>
                  <a:latin typeface="Calibri"/>
                </a:rPr>
                <a:t>: </a:t>
              </a:r>
              <a:r>
                <a:rPr b="0" lang="th-TH" sz="3200" spc="-1" strike="noStrike">
                  <a:solidFill>
                    <a:srgbClr val="ffffff"/>
                  </a:solidFill>
                  <a:latin typeface="Calibri"/>
                </a:rPr>
                <a:t>พรรณนาป่ารอบข้างระหว่างเดินทางไปร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3200" spc="-1" strike="noStrike">
                  <a:solidFill>
                    <a:srgbClr val="ffffff"/>
                  </a:solidFill>
                  <a:latin typeface="Calibri"/>
                </a:rPr>
                <a:t>-</a:t>
              </a:r>
              <a:r>
                <a:rPr b="1" lang="th-TH" sz="3200" spc="-1" strike="noStrike">
                  <a:solidFill>
                    <a:srgbClr val="ffffff"/>
                  </a:solidFill>
                  <a:latin typeface="Calibri"/>
                </a:rPr>
                <a:t>ปมขัดแย้ง</a:t>
              </a:r>
              <a:r>
                <a:rPr b="0" lang="th-TH" sz="32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th-TH" sz="3200" spc="-1" strike="noStrike">
                  <a:solidFill>
                    <a:srgbClr val="ffffff"/>
                  </a:solidFill>
                  <a:latin typeface="Calibri"/>
                </a:rPr>
                <a:t>: </a:t>
              </a:r>
              <a:r>
                <a:rPr b="0" lang="th-TH" sz="3200" spc="-1" strike="noStrike">
                  <a:solidFill>
                    <a:srgbClr val="ffffff"/>
                  </a:solidFill>
                  <a:latin typeface="Calibri"/>
                </a:rPr>
                <a:t>ท้าวกะหมังกุหนิงมาขอบุษบาให้วิหยาสะกำ แต่ท้าวดาหายกให้จรกาไปแล้ว จึงเกิดศึกชิงนาง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799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Content Placeholder 2"/>
          <p:cNvGrpSpPr/>
          <p:nvPr/>
        </p:nvGrpSpPr>
        <p:grpSpPr>
          <a:xfrm>
            <a:off x="500040" y="858960"/>
            <a:ext cx="8229600" cy="4871880"/>
            <a:chOff x="500040" y="858960"/>
            <a:chExt cx="8229600" cy="4871880"/>
          </a:xfrm>
        </p:grpSpPr>
        <p:pic>
          <p:nvPicPr>
            <p:cNvPr id="56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500040" y="860400"/>
              <a:ext cx="8229600" cy="48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500040" y="858960"/>
              <a:ext cx="8229600" cy="487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000" spc="-1" strike="noStrike">
                  <a:solidFill>
                    <a:srgbClr val="ffffff"/>
                  </a:solidFill>
                  <a:latin typeface="Angsana New"/>
                </a:rPr>
                <a:t>๏  </a:t>
              </a:r>
              <a:r>
                <a:rPr b="0" lang="th-TH" sz="3000" spc="-1" strike="noStrike" u="sng">
                  <a:solidFill>
                    <a:srgbClr val="ffffff"/>
                  </a:solidFill>
                  <a:uFillTx/>
                  <a:latin typeface="Calibri"/>
                </a:rPr>
                <a:t>ตัวละคร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3000" spc="-1" strike="noStrike">
                  <a:solidFill>
                    <a:srgbClr val="ffffff"/>
                  </a:solidFill>
                  <a:latin typeface="Calibri"/>
                </a:rPr>
                <a:t>-</a:t>
              </a:r>
              <a:r>
                <a:rPr b="1" lang="th-TH" sz="3000" spc="-1" strike="noStrike">
                  <a:solidFill>
                    <a:srgbClr val="ffffff"/>
                  </a:solidFill>
                  <a:latin typeface="Calibri"/>
                </a:rPr>
                <a:t>กุเรปัน </a:t>
              </a:r>
              <a:r>
                <a:rPr b="0" lang="th-TH" sz="3000" spc="-1" strike="noStrike">
                  <a:solidFill>
                    <a:srgbClr val="ffffff"/>
                  </a:solidFill>
                  <a:latin typeface="Calibri"/>
                </a:rPr>
                <a:t>: </a:t>
              </a:r>
              <a:r>
                <a:rPr b="0" lang="th-TH" sz="3000" spc="-1" strike="noStrike">
                  <a:solidFill>
                    <a:srgbClr val="ffffff"/>
                  </a:solidFill>
                  <a:latin typeface="Calibri"/>
                </a:rPr>
                <a:t>ถือยศศักดิ์ไม่ไว้หน้าใคร ไม่เกรงใจใคร เช่น ในราชสาสน์ถึงระตูหมันหยา กล่าวตำหนิระตูหมันยาอย่างไม่ไว้หน้าว่าเป็นใจให้จินตะหราแย่งคู่หมั้นบุษบา สอนลูกให้ยั่วยวนอิเหนาเป็นต้นเหตุให้บุษบาร้างคู่ตุนาหงัน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3000" spc="-1" strike="noStrike">
                  <a:solidFill>
                    <a:srgbClr val="ffffff"/>
                  </a:solidFill>
                  <a:latin typeface="Calibri"/>
                </a:rPr>
                <a:t>-</a:t>
              </a:r>
              <a:r>
                <a:rPr b="1" lang="th-TH" sz="3000" spc="-1" strike="noStrike">
                  <a:solidFill>
                    <a:srgbClr val="ffffff"/>
                  </a:solidFill>
                  <a:latin typeface="Calibri"/>
                </a:rPr>
                <a:t>ท้าวดาหา </a:t>
              </a:r>
              <a:r>
                <a:rPr b="1" lang="th-TH" sz="3000" spc="-1" strike="noStrike">
                  <a:solidFill>
                    <a:srgbClr val="ffffff"/>
                  </a:solidFill>
                  <a:latin typeface="Calibri"/>
                </a:rPr>
                <a:t>: </a:t>
              </a:r>
              <a:r>
                <a:rPr b="0" lang="th-TH" sz="3000" spc="-1" strike="noStrike">
                  <a:solidFill>
                    <a:srgbClr val="ffffff"/>
                  </a:solidFill>
                  <a:latin typeface="Calibri"/>
                </a:rPr>
                <a:t>หยิ่งในศักดิ์ศรี ใจร้อน เช่น ตัดสินใจรับศึกกะหมังกุหนิงโดยไม่สนใจว่าจะมีใครมาช่วยหรือไม่ เป็นคนรักษาสัจจะ รักษาเกียรติยศชื่อเสียงเป็นอย่างยิ่ง เมื่อได้ยกนางบุษบาให้นางจรกาไปแล้ว เมื่อกะหมังกุหนิงมาสู่ขออีกจึงปฏิเสธ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en-US" sz="3000" spc="-1" strike="noStrike">
                  <a:solidFill>
                    <a:srgbClr val="ffffff"/>
                  </a:solidFill>
                  <a:latin typeface="Calibri"/>
                </a:rPr>
                <a:t>-</a:t>
              </a:r>
              <a:r>
                <a:rPr b="1" lang="th-TH" sz="3000" spc="-1" strike="noStrike">
                  <a:solidFill>
                    <a:srgbClr val="ffffff"/>
                  </a:solidFill>
                  <a:latin typeface="Calibri"/>
                </a:rPr>
                <a:t>อิเหนา</a:t>
              </a:r>
              <a:r>
                <a:rPr b="0" lang="th-TH" sz="3000" spc="-1" strike="noStrike">
                  <a:solidFill>
                    <a:srgbClr val="ffffff"/>
                  </a:solidFill>
                  <a:latin typeface="Calibri"/>
                </a:rPr>
                <a:t> </a:t>
              </a:r>
              <a:r>
                <a:rPr b="0" lang="th-TH" sz="3000" spc="-1" strike="noStrike">
                  <a:solidFill>
                    <a:srgbClr val="ffffff"/>
                  </a:solidFill>
                  <a:latin typeface="Calibri"/>
                </a:rPr>
                <a:t>: </a:t>
              </a:r>
              <a:r>
                <a:rPr b="0" lang="th-TH" sz="3000" spc="-1" strike="noStrike">
                  <a:solidFill>
                    <a:srgbClr val="ffffff"/>
                  </a:solidFill>
                  <a:latin typeface="Calibri"/>
                </a:rPr>
                <a:t>รอบคอบ มองการณ์ไกล เช่น ตอนที่สังคามาระตารบกับวิหยาสะกำ อิเหนาได้เตือนสังคามาระตาว่าไม่ชำนาญกระบี่ อย่าลงจากหลังม้า เพราะเพลงทวนนั้น ชำนาญอยู่แล้วจะเอาชนะได้ง่ายกว่า มีอารมณ์ละเอียดอ่อน เช่น เมื่อจากสามนางมาเห็นสิ่งใดก็คิดถึงนางทั้งสาม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Content Placeholder 2"/>
          <p:cNvGrpSpPr/>
          <p:nvPr/>
        </p:nvGrpSpPr>
        <p:grpSpPr>
          <a:xfrm>
            <a:off x="469800" y="401760"/>
            <a:ext cx="8229240" cy="5979960"/>
            <a:chOff x="469800" y="401760"/>
            <a:chExt cx="8229240" cy="5979960"/>
          </a:xfrm>
        </p:grpSpPr>
        <p:pic>
          <p:nvPicPr>
            <p:cNvPr id="59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470880" y="401760"/>
              <a:ext cx="8228160" cy="597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"/>
            <p:cNvSpPr/>
            <p:nvPr/>
          </p:nvSpPr>
          <p:spPr>
            <a:xfrm>
              <a:off x="469800" y="404640"/>
              <a:ext cx="8228160" cy="597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000" spc="-1" strike="noStrike">
                  <a:solidFill>
                    <a:srgbClr val="ffffff"/>
                  </a:solidFill>
                  <a:latin typeface="Angsana New"/>
                </a:rPr>
                <a:t>๏  </a:t>
              </a:r>
              <a:r>
                <a:rPr b="0" lang="th-TH" sz="2000" spc="-1" strike="noStrike" u="sng">
                  <a:solidFill>
                    <a:srgbClr val="ffffff"/>
                  </a:solidFill>
                  <a:uFillTx/>
                  <a:latin typeface="Calibri"/>
                </a:rPr>
                <a:t>เรื่องย่อ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th-TH" sz="2000" spc="-1" strike="noStrike">
                  <a:solidFill>
                    <a:srgbClr val="ffffff"/>
                  </a:solidFill>
                  <a:latin typeface="Calibri"/>
                </a:rPr>
                <a:t>ดินแดนชวาโบราณมีกษัตริย์วงศ์หนึ่ง เรียกว่า วงศ์เทวา สืบเชื้อสายมาจากเทวดา คือ องค์ปะตาระกาหลา กล่าวกันว่า มีพี่น้องสี่องค์ องค์พี่ครองเมืองกุเรปัน องค์สองครองเมืองดาหา องค์สามครองเมืองกาหลัง องค์สี่ครองเมืองสิงหัดส่าหรี กษัตริย์วงศ์เทวามีอานุภาพยิ่งใหญ่ด้วยยศศักดิ์ ถือตัวว่าเป็นชนชั้นสูงจึงอภิเษกกันเฉพาะในวงศ์พี่น้อง นอกจากนี้ทั้งสี่เมืองเท่านั้นที่สามารถแต่งตั้งมเหสีได้๕องค์ตามลำดับ คือ ประไหมสุหรี มะเดหวี มะโตลิกู เหมาหราหงี แต่มีส่วนเกี่ยวข้องกับเมืองหมันหยาซึ่งเป็นเมืองเล็ก กล่าวคือ เจ้าเมืองนี้มีพระราชธิดาสามองค์ องค์โตชื่อ นิหลาอระตา ได้ไปเป็นประไหมสุหรีเมืองกุเรปัน องค์สองชื่อ ดาหราวาตี ได้เป็นประไหมสุหรีเมืองดาหา องค์สุดท้องชื่อ จินดาส่าหรี ได้อภิเษกกับโอรสท้าวมังกัน และได้ครองเมืองหมันหยา ท้าวกุเรปันมีโอรสกับ ประไหมสุหรี เป็นหนุ่มรูปงามและเก่งกล้าสามารถมาก ชื่ออิเหนา ท้าวดาหามีราชธิดากับประไหมสุหรี ชื่อ บุษบ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th-TH" sz="2000" spc="-1" strike="noStrike">
                  <a:solidFill>
                    <a:srgbClr val="ffffff"/>
                  </a:solidFill>
                  <a:latin typeface="Calibri"/>
                </a:rPr>
                <a:t>ซึ่งมีอายุไล่เลี่ยกับอิเหนา ท้าวกุเรปันจึงหมั้นบุษบาให้กับอิเหนา ส่วนระตูหมันหยาก็มีราชธิดาชื่อ ระเด่นจินตะหรา อายุรุ่นราวคราวเดียวกับอิเหน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0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th-TH" sz="2000" spc="-1" strike="noStrike">
                  <a:solidFill>
                    <a:srgbClr val="ffffff"/>
                  </a:solidFill>
                  <a:latin typeface="Calibri"/>
                </a:rPr>
                <a:t>เมื่อพระอัยยิกาที่เมืองหมันหยาสิ้นพระชนม์ ท้าวกุเรปันมอบหมายให้อิเหนาไปร่วมพิธีถวายพระเพลิงพร้อมกะหรัดตะปาตี อิเหนาพบจินตะหราก็หลงรัก จนพิธีถวายพระเพลิงเสร็จแล้วก็ยังไม่ยอมกลับ ท้าวกุเรปันจึงต้องอ้างว่า ประไหมสุหรีจะมีพระประสูติกาลให้กลับมาเป็นกำลังใจให้พระราชมารดา อิเหนาจึงจำใจต้องกลับมา อย่างไรก็ตาม อิเหนายังหาทางกลับไปเมืองหมันหยาอีก โดยอ้างว่าจะไปประพาสป่า แล้วปลอมตัวเป็นโจรป่าชื่อ มิสารปันหยี ระหว่างทางได้รบกับเมืองอื่นจนชนะและได้โอรสธิดาของเจ้าเมืองมาเป็นเชลย ท้าวกุเรปันเรียกอิเหนากลับเมืองถึงสองครั้ง พร้อมทั้งนัดวันอภิเษกระหว่างอิเหนากับบุษบา แต่อิเหนาไม่ยอมกลับ สั่งความตัดรอนนางบุษบา ท้าวกุเรปันและท้าวดาหาทราบเรื่องก็ขัดเคืองพระทัย ท้าวดาหาถึงกลับหลุดปากว่าถ้าใครมาขอบุษบาก็จะยกให้ ฝ่ายจรกา ระตูเมืองเล็กเมืองหนึ่ง และเป็นอนุชาของท้าวล่าส่ำ จรกาเป็นชายรูปชั่วตัวดำแต่อยากได้ชายารูปงาม จึงให้ช่างวาดไปแอบวาดภาพราชธิดาเมืองสิงหัดส่าหรี คือ นางจินดาส่าหรี ครั้นทราบข่าวว่านางบุษบาสวยงามมาก จึงให้ช่างวาดภาพนางบุษบามาด้วย จรกาเห็นรูปนางบุษบาก็หลงใหลในทันที และได้ข่าวจากช่างวาดว่าบุษบาร้างคู่ตุนาหงัน จึงรีบให้ระตูล่าส่ำ พี่ชายมาสู่ขอบุษบา ท้าวดาหากำลังโกรธอิเหนาอยู่แม้จะรู้ว่าจรการูปชั่วต่ำศักดิ์ แต่เมื่อพลั้งปากว่าใครมาขอก็จะยกให้ จึงจำใจ ยกนางบุษบาให้จรกา และกำหนดวิวาห์ในสามเดือน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Content Placeholder 2"/>
          <p:cNvGrpSpPr/>
          <p:nvPr/>
        </p:nvGrpSpPr>
        <p:grpSpPr>
          <a:xfrm>
            <a:off x="360360" y="262080"/>
            <a:ext cx="8466120" cy="6193800"/>
            <a:chOff x="360360" y="262080"/>
            <a:chExt cx="8466120" cy="6193800"/>
          </a:xfrm>
        </p:grpSpPr>
        <p:pic>
          <p:nvPicPr>
            <p:cNvPr id="6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63240" y="263520"/>
              <a:ext cx="8459640" cy="6192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360360" y="262080"/>
              <a:ext cx="8466120" cy="619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1900" spc="-1" strike="noStrike">
                  <a:solidFill>
                    <a:srgbClr val="ffffff"/>
                  </a:solidFill>
                  <a:latin typeface="Angsana New"/>
                </a:rPr>
                <a:t>๏ </a:t>
              </a:r>
              <a:r>
                <a:rPr b="1" lang="th-TH" sz="1900" spc="-1" strike="noStrike" u="sng">
                  <a:solidFill>
                    <a:srgbClr val="ffffff"/>
                  </a:solidFill>
                  <a:uFillTx/>
                  <a:latin typeface="Calibri"/>
                  <a:cs typeface="Cordia New"/>
                </a:rPr>
                <a:t>ความเชื่อ</a:t>
              </a:r>
              <a:r>
                <a:rPr b="1" lang="th-TH" sz="1900" spc="-1" strike="noStrike" u="sng">
                  <a:solidFill>
                    <a:srgbClr val="ffffff"/>
                  </a:solidFill>
                  <a:uFillTx/>
                  <a:latin typeface="Calibri"/>
                  <a:ea typeface="Cordia New"/>
                </a:rPr>
                <a:t>/</a:t>
              </a:r>
              <a:r>
                <a:rPr b="1" lang="th-TH" sz="1900" spc="-1" strike="noStrike" u="sng">
                  <a:solidFill>
                    <a:srgbClr val="ffffff"/>
                  </a:solidFill>
                  <a:uFillTx/>
                  <a:latin typeface="Calibri"/>
                  <a:cs typeface="Cordia New"/>
                </a:rPr>
                <a:t>พิธีกรรม</a:t>
              </a:r>
              <a:r>
                <a:rPr b="1" lang="th-TH" sz="1900" spc="-1" strike="noStrike" u="sng">
                  <a:solidFill>
                    <a:srgbClr val="ffffff"/>
                  </a:solidFill>
                  <a:uFillTx/>
                  <a:latin typeface="Calibri"/>
                  <a:ea typeface="Cordia New"/>
                </a:rPr>
                <a:t>/</a:t>
              </a:r>
              <a:r>
                <a:rPr b="1" lang="th-TH" sz="1900" spc="-1" strike="noStrike" u="sng">
                  <a:solidFill>
                    <a:srgbClr val="ffffff"/>
                  </a:solidFill>
                  <a:uFillTx/>
                  <a:latin typeface="Calibri"/>
                  <a:cs typeface="Cordia New"/>
                </a:rPr>
                <a:t>ประเพณี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ชัยภูมิในการรบ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: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ครุฑนาม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-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สภาพการศึกในอดีต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ป็นการตั้งแบบพิชัยยุทธ์ แบบครุฑนาม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 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คือการตั้งโดย 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มีต้นไม้ใหญ่ 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1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ต้นขึ้นอยู่บนบริเวณที่มีจอมปลวกหรือภูเขาอาจจะเป็นบริเวณบริเวณเนินทราย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ก็ได้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ลักษณะการรบแบบครุฑนาม ให้ประดับอาภรณ์สีแดง มือถือธนู แล้วเอาน้ำใส่ศีรษะ คอยฟังเสียงปี่และเสียงไก่ขัน เป็นฤกษ์สกุณสังหาร แล้วให้เร่งเบิกพล โห่ร้องเอาชัย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การตัดไม้ข่มนาม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   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ป็นพิธีกรรมอย่างหนึ่งเมื่อจะยกกองทัพออกทำสงคราม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โดยตั้งเป็นโรงพิธีขึ้น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</a:t>
              </a:r>
              <a:br>
                <a:rPr sz="1900"/>
              </a:b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อาดินจากใต้สะพาน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ดินท่าน้ำ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ดินในป่าช้า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อย่างละ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๓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แห่ง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มาผสมปั้นเป็นรูปข้าศึก แล้วเขียนชื่อแม่ทัพข้าศึก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ลงยันต์พุทธจักร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บรรลัยจักร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ทับลงบนชื่อนั้น แต่งตัวให้หุ่นดังกล่าวเป็นตามเพศภาษาข้าศึก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อาต้นกล้วยและไม้มีชื่อร่วมตัวอักษรเดียวกับชื่อของข้าศึกผู้เป็นแม่ทัพ</a:t>
              </a:r>
              <a:br>
                <a:rPr sz="1900"/>
              </a:b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มาปลุกเสกในโรงพิธีแล้วเอาหุ่นผูกติดกับต้นกล้วย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อาไม้นั้นประกบกันเข้า</a:t>
              </a:r>
              <a:br>
                <a:rPr sz="1900"/>
              </a:b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พราหมณ์อ่านพระเวทเมื่อได้ฤกษ์แล้วพระมหากษัตริย์จะมีพระบรมราชโองการให้ขุนพลทหารคนใดคนหนึ่งทำพิธีแทน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โดยพระราชทาน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พระธำมรงค์เนาวรัตน์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และพระแสงดาบอาญาสิทธิ์ให้ขุนพลจะใช้ดาบอาญาสิทธิ์ฟันไม้นั้นให้ขาดใน ๓ ที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แล้วกลับเข้าไปบังคมทูลว่าได้ปราบข้าศึกมีชัยชนะตามพระราชโองการแล้วพร้อมถวายพระแสงดาบอาญาสิทธิ์และพระธำมรงค์คืน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โขลนทวาร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พิธีไสยศาสตร์บำรุงขวัญทหารก่อนที่จะออกสงคราม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ทำเป็นประตูป่า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ซุ้มประตูประดับด้วยกิ่งไม้สดๆให้ทหารในกองทัพลอด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มีพราหมณ์คู่หนึ่งนั่งบนร้านสูงสองข้างประตู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ทำพิธีสวดพระเวท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ประพรมน้ำมนต์เพื่อเป็นสิริมงคลแก่กองทัพ  พิธีนี้ต่อมาได้มีพิธีกรรมทางพระพุทธศาสนาเข้ามาด้วย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โดยพระสงฆ์สวดชัยมงคลคาถาสรรเสริญคุณพระพุทธเจ้าชนะมารแล้วประพรมน้ำมนต์แก่ทหารที่ลอดซุ้มประตูเมื่อเสร็จศึกสงครามแล้ว ต้องผ่านโขลนทวารอีก</a:t>
              </a:r>
              <a:r>
                <a:rPr b="0" lang="en-US" sz="1900" spc="-1" strike="noStrike">
                  <a:solidFill>
                    <a:srgbClr val="ffffff"/>
                  </a:solidFill>
                  <a:latin typeface="Calibri"/>
                </a:rPr>
                <a:t>  </a:t>
              </a:r>
              <a:r>
                <a:rPr b="0" lang="th-TH" sz="19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กันเสนียดจัญไร แก้กันภูตผีปีศาจที่อาจติดตามมาจากสนามรบเป็นพิธีการที่บำรุงขวัญทหารผ่านศึกไม่ให้เสียขวัญจากการสงครามนั่นเอง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4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Title 1"/>
          <p:cNvGrpSpPr/>
          <p:nvPr/>
        </p:nvGrpSpPr>
        <p:grpSpPr>
          <a:xfrm>
            <a:off x="426960" y="712800"/>
            <a:ext cx="8332920" cy="5218200"/>
            <a:chOff x="426960" y="712800"/>
            <a:chExt cx="8332920" cy="5218200"/>
          </a:xfrm>
        </p:grpSpPr>
        <p:pic>
          <p:nvPicPr>
            <p:cNvPr id="65" name="Title 1" descr=""/>
            <p:cNvPicPr/>
            <p:nvPr/>
          </p:nvPicPr>
          <p:blipFill>
            <a:blip r:embed="rId1"/>
            <a:stretch/>
          </p:blipFill>
          <p:spPr>
            <a:xfrm>
              <a:off x="426960" y="712800"/>
              <a:ext cx="8332920" cy="521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6" name=""/>
            <p:cNvSpPr/>
            <p:nvPr/>
          </p:nvSpPr>
          <p:spPr>
            <a:xfrm>
              <a:off x="428760" y="714240"/>
              <a:ext cx="8329320" cy="52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200" spc="-1" strike="noStrike">
                  <a:solidFill>
                    <a:srgbClr val="ffffff"/>
                  </a:solidFill>
                  <a:latin typeface="Angsana New"/>
                </a:rPr>
                <a:t>๏ </a:t>
              </a:r>
              <a:r>
                <a:rPr b="1" lang="th-TH" sz="2200" spc="-1" strike="noStrike" u="sng">
                  <a:solidFill>
                    <a:srgbClr val="ffffff"/>
                  </a:solidFill>
                  <a:uFillTx/>
                  <a:latin typeface="Calibri"/>
                  <a:cs typeface="Cordia New"/>
                </a:rPr>
                <a:t>ข้อคิดเตือนใจ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๑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. 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ความกล้าหาญ ไม่หวาดหวั่นพรั่นพรึงต่อข้าศึกศัตรูเช่น ท้าวดาหารู้ว่าท้าวกะหมังกุหนิง จะยกทัพออกไปสู้รบโดยมิเกรงกลัวแต่อย่างใด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๒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. 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ความรักในศักดิ์ศรี การมีขัตติยมานะหรือความสำนึกในเกียรติแห่งวงศ์ของตนเอง เช่น อิเหนาเมื่อทราบว่าเมืองดาหาเกิดศึก แม้จะไม่อยากไปช่วยแต่ความรักในวงศ์อสัญแดหวา จึงต้องยกทัพไปช่วย แม้นเสียดาหาก็เสียวงศ์อัปยศถึงวงศ์อสัญหยาเจ้ากับพี่ก็จะมีแต่นินทา แก้วตาจงดำริตริตรอง 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( 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อิเหนากล่าวกับจินตะหรา 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๓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. 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รักษาคำสัตย์ การรู้จักรักษาคำพูด เมื่อพูดไว้อย่างไรก็ต้องทำตาม แม้ว่าจะมีใครมาบีบบังคับหรือฝืนคำพูดหรือมีเหตุการณ์ใดๆ เกิดขึ้นก็ไม่ควรเสียคำพูด เช่นท้าวดาหาได้ยกนางบุษบาพระราชธิดาให้กับระตูจรกาไปแล้ว เมื่อท้าวกะหมังกุหนิงส่งฑูตมาขอนางให้เเก่โอรสของตน ก็ทรงปฏิเสธและยืนยันว่าได้ยกให้ระตูจรกาไปแล้วไม่อาจกลับคำ และพร้อมที่จะทำสงครามถ้าท้าวกะหมังกุหนิงยกทัพมาโจมตี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๔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. 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การรู้จักให้อภัย การไม่ถือโทษโกรธแค้นกันและกัน เมื่อผิดพลาดไปก็สามารถอโหสิกรรมต่อกัน เช่น เมื่อทัพกะหมังกุหนิงยอมแพ้ อิเหนาก็ให้อภัยและยอมให้นำศพท้าวกะหมังกุหนิงและพระโอรสกลับไปทำพิธีที่เมืองได้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๕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. </a:t>
              </a:r>
              <a:r>
                <a:rPr b="0" lang="th-TH" sz="22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ความรักและความหลงใหล ควรรู้จักแยกแยะให้ออกระหว่างความรักกับความหลงใหล ในเรื่องนี้ วิหยาสะกำหลงใหลนางบุษบาแม้ได้เห็นเพียงภาพวาด และหากไม่ได้นางมาเป็นชายา จะต้องตายทำให้ท้าวกะหมังกุหนิงต้องทำศึกกับเมืองดาหา ในที่สุดสองพ่อลูกก็จบชีวิตลง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spcBef>
                  <a:spcPts val="550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" name="Content Placeholder 2"/>
          <p:cNvGrpSpPr/>
          <p:nvPr/>
        </p:nvGrpSpPr>
        <p:grpSpPr>
          <a:xfrm>
            <a:off x="396720" y="835200"/>
            <a:ext cx="8399520" cy="5773680"/>
            <a:chOff x="396720" y="835200"/>
            <a:chExt cx="8399520" cy="5773680"/>
          </a:xfrm>
        </p:grpSpPr>
        <p:pic>
          <p:nvPicPr>
            <p:cNvPr id="68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97800" y="835200"/>
              <a:ext cx="8398080" cy="577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"/>
            <p:cNvSpPr/>
            <p:nvPr/>
          </p:nvSpPr>
          <p:spPr>
            <a:xfrm>
              <a:off x="396720" y="836640"/>
              <a:ext cx="8399520" cy="57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100" spc="-1" strike="noStrike">
                  <a:solidFill>
                    <a:srgbClr val="ffffff"/>
                  </a:solidFill>
                  <a:latin typeface="Angsana New"/>
                </a:rPr>
                <a:t>๏  </a:t>
              </a:r>
              <a:r>
                <a:rPr b="1" lang="th-TH" sz="2100" spc="-1" strike="noStrike" u="sng">
                  <a:solidFill>
                    <a:srgbClr val="ffffff"/>
                  </a:solidFill>
                  <a:uFillTx/>
                  <a:latin typeface="Calibri"/>
                  <a:cs typeface="Cordia New"/>
                </a:rPr>
                <a:t>จินตภาพ</a:t>
              </a:r>
              <a:br>
                <a:rPr sz="2100"/>
              </a:br>
              <a:r>
                <a:rPr b="1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1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พ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อได้ศุภฤกษ์ก็ลั่นฆ้อง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ประโคมกึกก้องท้องสนาม</a:t>
              </a:r>
              <a:br>
                <a:rPr sz="2100"/>
              </a:b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ประโรหิตฟันไม้ข่มนาม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ทำตามตำราพิชัยยุทธ์</a:t>
              </a:r>
              <a:br>
                <a:rPr sz="2100"/>
              </a:b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ทัพหน้าทัพหลวงทัพหลัง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พร้อมพรั่งตั้งโห่อึงอุตม์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ทหารโบกธงทองกระบี่ครุฑ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ฝรั่งจุดปืนใหญ่ให้สัญญา</a:t>
              </a:r>
              <a:br>
                <a:rPr sz="2100"/>
              </a:b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ชีพ่อก็เบิกโขลนทวาร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โอมอ่านอาคมคาถา</a:t>
              </a:r>
              <a:br>
                <a:rPr sz="2100"/>
              </a:b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สด็จทรงช้างที่นั่งหลังคา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คลาเคลื่อนโยธาทุกหมวดก้าง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-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ป็นการบรรยายให้ผู้อ่านเห็นภาพการตั้งขบวนทัพของอิเหนา ว่ามีลักษณะอย่างไร ประกอบด้วย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อะไรบ้าง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100" spc="-1" strike="noStrike">
                  <a:solidFill>
                    <a:srgbClr val="ffffff"/>
                  </a:solidFill>
                  <a:latin typeface="Angsana New"/>
                </a:rPr>
                <a:t>๏  </a:t>
              </a:r>
              <a:r>
                <a:rPr b="1" lang="th-TH" sz="2100" spc="-1" strike="noStrike" u="sng">
                  <a:solidFill>
                    <a:srgbClr val="ffffff"/>
                  </a:solidFill>
                  <a:uFillTx/>
                  <a:latin typeface="Calibri"/>
                  <a:cs typeface="Cordia New"/>
                </a:rPr>
                <a:t>ภาพพจน์</a:t>
              </a:r>
              <a:br>
                <a:rPr sz="2100"/>
              </a:br>
              <a:r>
                <a:rPr b="0" lang="en-US" sz="2100" spc="-1" strike="noStrike">
                  <a:solidFill>
                    <a:srgbClr val="ffffff"/>
                  </a:solidFill>
                  <a:latin typeface="Calibri"/>
                </a:rPr>
                <a:t>-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การใช้อุปมา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/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กินจริง</a:t>
              </a:r>
              <a:br>
                <a:rPr sz="2100"/>
              </a:b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บทชมดง เช่น</a:t>
              </a:r>
              <a:r>
                <a:rPr b="0" lang="en-US" sz="2100" spc="-1" strike="noStrike">
                  <a:solidFill>
                    <a:srgbClr val="ffffff"/>
                  </a:solidFill>
                  <a:latin typeface="Calibri"/>
                </a:rPr>
                <a:t> </a:t>
              </a:r>
              <a:br>
                <a:rPr sz="2100"/>
              </a:b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บญจวรรณจับวัลย์ชาลี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หมือนวันพี่ไกลสามสุดามา</a:t>
              </a:r>
              <a:r>
                <a:rPr b="0" lang="en-US" sz="2100" spc="-1" strike="noStrike">
                  <a:solidFill>
                    <a:srgbClr val="ffffff"/>
                  </a:solidFill>
                  <a:latin typeface="Calibri"/>
                </a:rPr>
                <a:t> 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นางนวลจับนางนวลนอน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หมือนพี่แนบนวลสมรจินตะหร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5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-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ป็นการเปรียบว่าระหว่างทางที่อิเหนากำลังยกทัพไปช่วยท้าวดาหา</a:t>
              </a:r>
              <a:r>
                <a:rPr b="0" lang="en-US" sz="2100" spc="-1" strike="noStrike">
                  <a:solidFill>
                    <a:srgbClr val="ffffff"/>
                  </a:solidFill>
                  <a:latin typeface="Calibri"/>
                </a:rPr>
                <a:t> </a:t>
              </a:r>
              <a:br>
                <a:rPr sz="2100"/>
              </a:b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แล้วก็ได้ชมนกชมไม้ และได้คิดถึงภรรยาทั้ง </a:t>
              </a:r>
              <a:r>
                <a:rPr b="0" lang="en-US" sz="2100" spc="-1" strike="noStrike">
                  <a:solidFill>
                    <a:srgbClr val="ffffff"/>
                  </a:solidFill>
                  <a:latin typeface="Calibri"/>
                </a:rPr>
                <a:t>3 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คน</a:t>
              </a:r>
              <a:br>
                <a:rPr sz="2100"/>
              </a:b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1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โดยเห็นนกนางนวลจับกัน ก็นึกถึงตอนที่เค้าอยู่กับจินตะหรา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สี่เหลี่ยมผืนผ้า 1"/>
          <p:cNvSpPr/>
          <p:nvPr/>
        </p:nvSpPr>
        <p:spPr>
          <a:xfrm>
            <a:off x="2340000" y="141120"/>
            <a:ext cx="4319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ffffff"/>
                </a:solidFill>
                <a:latin typeface="Angsana New"/>
              </a:rPr>
              <a:t>วิเคราะห์คุณค่าด้านวรรณศิลป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1" name="Content Placeholder 2"/>
          <p:cNvGrpSpPr/>
          <p:nvPr/>
        </p:nvGrpSpPr>
        <p:grpSpPr>
          <a:xfrm>
            <a:off x="324000" y="622440"/>
            <a:ext cx="8399160" cy="5181480"/>
            <a:chOff x="324000" y="622440"/>
            <a:chExt cx="8399160" cy="5181480"/>
          </a:xfrm>
        </p:grpSpPr>
        <p:pic>
          <p:nvPicPr>
            <p:cNvPr id="72" name="Content Placeholder 2" descr=""/>
            <p:cNvPicPr/>
            <p:nvPr/>
          </p:nvPicPr>
          <p:blipFill>
            <a:blip r:embed="rId1"/>
            <a:stretch/>
          </p:blipFill>
          <p:spPr>
            <a:xfrm>
              <a:off x="324000" y="623880"/>
              <a:ext cx="8397360" cy="51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324000" y="622440"/>
              <a:ext cx="8399160" cy="518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2400" spc="-1" strike="noStrike">
                  <a:solidFill>
                    <a:srgbClr val="ffffff"/>
                  </a:solidFill>
                  <a:latin typeface="Angsana New"/>
                </a:rPr>
                <a:t>๏  </a:t>
              </a:r>
              <a:r>
                <a:rPr b="1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การเล่นคำ </a:t>
              </a:r>
              <a:r>
                <a:rPr b="1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/ </a:t>
              </a:r>
              <a:r>
                <a:rPr b="1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สัมผัส</a:t>
              </a:r>
              <a:br>
                <a:rPr sz="2400"/>
              </a:b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    บทชมดง เช่น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	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จากพรากจับจากจำนรรจา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หมือนจากนางสการะวาตี</a:t>
              </a:r>
              <a:br>
                <a:rPr sz="2400"/>
              </a:b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แขกเต้าจับเต่าร้างร้อง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	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หมือนร้างท้องมาหยารัศมี</a:t>
              </a:r>
              <a:br>
                <a:rPr sz="2400"/>
              </a:b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     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-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ป็นการเล่นคำว่า จาก ใช้ซ้ำโดยเปลี่ยนความหมาย และซ้ำคำว่า ร้อง ใช้คำซ้ำโดยเปลี่ยน          ความหมายเช่นดัน</a:t>
              </a:r>
              <a:r>
                <a:rPr b="0" lang="en-US" sz="2400" spc="-1" strike="noStrike">
                  <a:solidFill>
                    <a:srgbClr val="ffffff"/>
                  </a:solidFill>
                  <a:latin typeface="Calibri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     </a:t>
              </a:r>
              <a:r>
                <a:rPr b="0" lang="th-TH" sz="2400" spc="-1" strike="noStrike" u="sng">
                  <a:solidFill>
                    <a:srgbClr val="ffffff"/>
                  </a:solidFill>
                  <a:uFillTx/>
                  <a:latin typeface="Calibri"/>
                  <a:cs typeface="Cordia New"/>
                </a:rPr>
                <a:t>ภาษาชว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ระเด่น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-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ลูกของผู้ครองนคร หมายถึง เจ้าหญิง หรือ เจ้าชาย ก็ได้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อินู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/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อิเหนา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-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หนุ่ม หรือ ยุพราช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ระตู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-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ผู้ครองนคร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ยี่หวา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-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ชีวิต จิตใ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601"/>
                </a:spcBef>
                <a:buClr>
                  <a:srgbClr val="ffffff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ยาหยี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ea typeface="Cordia New"/>
                </a:rPr>
                <a:t>- </a:t>
              </a:r>
              <a:r>
                <a:rPr b="0" lang="th-TH" sz="2400" spc="-1" strike="noStrike">
                  <a:solidFill>
                    <a:srgbClr val="ffffff"/>
                  </a:solidFill>
                  <a:latin typeface="Calibri"/>
                  <a:cs typeface="Cordia New"/>
                </a:rPr>
                <a:t>เรียกคนที่รักใคร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slow">
    <p:pull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31T14:36:54Z</dcterms:created>
  <dc:creator>SAMSUNG</dc:creator>
  <dc:description/>
  <dc:language>en-US</dc:language>
  <cp:lastModifiedBy>DarkUser</cp:lastModifiedBy>
  <dcterms:modified xsi:type="dcterms:W3CDTF">2012-08-27T12:45:58Z</dcterms:modified>
  <cp:revision>49</cp:revision>
  <dc:subject/>
  <dc:title>อิเหนา</dc:title>
</cp:coreProperties>
</file>