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7A5-21E5-480E-A8B3-4107DE74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919-7269-4AAF-9B31-877EAE51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67A-C088-4C73-90C5-403BF769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C73-8CCF-4293-9DE1-046EE242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30CE4-CC4A-419E-9F87-05FF2915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3843D-4E40-4D22-B0CF-45156D52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CEB33-0E88-408D-95D9-B88A61D7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38230-9A39-4B12-8A50-E04EF1F8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B5F35-78AC-47F2-BC7E-35902D53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F8A3F-D821-46F9-9A49-57ED2307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6A325-A980-4EB2-B836-DC603B14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3AD-0652-4182-9A01-1D39809A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C59D5-6B4A-43C0-BBB4-8F74A338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4115A-A396-4155-BF74-5CAAA44B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278C5-A556-4D0D-BBC1-5E2A53FA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19E29-1254-4BD2-AFA5-4AF40D33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D3B08-55A9-46EC-A59A-89182629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8F0-C91B-4F12-BFBA-3E01A2E6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B0D-9038-4487-A5AB-5577AB3B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B97-02E3-40CA-A166-EA657D22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354-3C46-47D8-9D6D-AE56765F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962-E7A6-46B8-B077-967C1C3C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4DF3-D060-43AF-89D1-99078A41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1C2-0167-434D-A976-13A1D30E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64A6-A5F6-4588-995E-153B17575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A867-FA2D-454D-BC68-9199EC3A70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NILAIAN PEMBESARAN KANAK-KANAK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42640" y="22856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ediakan oleh : Pn Josephine 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tuk Pelatih    : N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hu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: 200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ggaran kasar penambahan panjang lahi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ur 1 tahun – panjang anak bertamba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50% panjang lah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ur 4 tahun – Tinggi  anak 2 x gand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njang lah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ur 5 tahun – Tinggi  anak ak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bertambah 5cm tiap-ti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hun sehingga dewas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kurlilit Kepala (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ead Circumferan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kurlilit kepala dikaitkan dengan isipadu ot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a memberi gambaran tentang pembesaran dan perkembangan ot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iz badan pada keseluruhannya mesti diambil kira jika ukurlilit kepala digunakan sebagai panduan untuk menilai perkembangan ot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kurlilit kepala juga penting untuk mengesan awal 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ydrocephalus,microcephalus,craniosteno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kurlilit kepala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ata ukurlilit kepala semasa lahir ialah 34.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da umur bayi 6 bulan pertama, ukurlilit kepalanya  lebih besar daripada dadany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da umur bayi 9 bulan saiz otaknya adalah separuh saiz otak orang dew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da umur anak 2 tahun, otaknya adalah ¾ saiz otak orang dew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da umur anak 10 tahun, saiz otaknya adalah sama dengan saiz otak orang dew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nduan penambahan ukurlilit kepala bayi &amp; kanak-kana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caan ukurlilit kepala lebih significant jika diambil sebelum anak berumur 2 tahu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62120" y="2362320"/>
          <a:ext cx="7924680" cy="411948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mur 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mbahan dalam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mla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 – 4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4 bulan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5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– 12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8 bulan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63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– 2 tah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12 bulan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kurlilit dada (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hest circumferan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asa lahir ukurlilit dada - purata 33 c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asa bayi berumur 5 - 6 bulan ukurlilit dada dan  kepala adalah hampir s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pas bayi berumur 6 bulan dada membesar lebih pesat daripada kepa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ka ukurlilit dada dan kepala masih sama besar selepas bayi berumur 6 bulan, bayi mungkin mengalami kekurangan zat makanan,selepas 1 tahun ,bayi mungkin mengalami hydrocephal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matangan tulang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sifikasi /pembentukkan tulang bermula dalam rahim semasa janin berumur 5 bu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sifikasi tulang boleh digunakan sebagai index pembesaran melalui x’ray untuk melihat ketebalan dan bentuk tula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sifikasi tulang bermula selepas anak lahir hingga rem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es ini bermula dipusat ossifikasi dan terus ke bahagian tulang yang l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sifikasi tulang bergantung kepada sekresi hormon thyroxine di mana kekurangnya akan membantutkan pertumbuh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ertumbuhan Gig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tumbuhan gigi bermula semasa umur janin 3 bulan dalam kandung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a erupsi gigi bergantung kepada kesihatan, keturunan dan di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sunan pertumbuhan lebih penting daripada umur erupsi kerana ia boleh menyebabkan maloklus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upsi gigi bermula dengan incisor pada 6-8 bulan dan lengkap dengan molar kedua pada umur 2 –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/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ah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nduan mengira umur yang tidak diketahui dengan menggunakan kiraan erupsi gigi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angan gigi + 6 = Umur anak dala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Skin fold thickness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tebalan kulit diukur dengan menggunaka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alip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at – tempat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ang biasa diukur adalah disebelah kiri tubuh dibahagian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ric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bscap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bdome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adual menimbang berat badan kanak-kan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905120"/>
          <a:ext cx="8229600" cy="4971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tahun kebawa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tahun keat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-6 bulan = setiap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-4 tahun = 6 bulan sekali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-12 bulan = 2 bulan seka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-6 tahun =  setahun sekali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-2 tahun = 3 bulan sekali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adual mengambil ukuran panjang, lilitan dada &amp; kepal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914400"/>
          <a:ext cx="8305920" cy="5697360"/>
        </p:xfrm>
        <a:graphic>
          <a:graphicData uri="http://schemas.openxmlformats.org/drawingml/2006/table">
            <a:tbl>
              <a:tblPr/>
              <a:tblGrid>
                <a:gridCol w="281952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kuran panja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kuran tingg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litan kepala &amp; dad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aktu lah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tah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aktu lah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st visit to cli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– 6 tah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tahun seka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st visit to cli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 bulan d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ktif Spesifik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i definisi Pembesar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i definisi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nthropomet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i keadah- keadah pengukuran pembesar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yatakan purata berat lahir, panjang lahir, ukurlilit kepala &amp; ukurlilit d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yatakan anggaran kasar penambahan berat badan,  panjang, bayi &amp; kanak-kana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ghargai kepentingan mengambil anthropometry untuk bayi dan kanak-kana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si Pembesara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mbesar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mbahan dalam saiz badan yang menghasikan perubahan struktur &amp; fung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Anthropome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kuran-ukuran fizikal dan komposisi tubuh pada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seluruhan cth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craniometry,osteometry,skin fold thickness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at badan &amp; ukuran panjang / tingg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eadah – keadah mengukur Pembesar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rat badan ( Weight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kuran Panjang/ tingg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kuran lilitan kepala (head circumferan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kuran lengan (arm circumferan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kin fold thick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tumbuhan gig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matangan tula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Ukuran Berat badan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lah satu keadah yang paling baik untuk menilai pembesaran ana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kuran – ukuran  yang diambil dalam jangkamasa yang tetap boleh di jadikan sebagai index pembesaran atau kegagalan pembesar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abila berat badan anak itu menurun,ini menunjukkan bahawa anak itu mungkin mengalam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) Kekurangan pengambilan makana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zat protin dan kalor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) mengalami jangkitan yang kroni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ggaran kasar berat badan kanak- kan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ur 5 bulan – akan 2 x ganda berat lah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ur 12 bulan – akan 3 x ganda bt w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ur 24 bulan – akan 4 x ganda bt w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ur 6 tahun – akan 6 x ganda bt w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pas anak berumur 2 tahun hingga remaja, purata kenaikan berat badan ialah 1.9 – 2.2 kg setiap tah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 mengira berat badan anak 1 th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atas :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umur dlm thn + 3) x 5 =     l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nduan kenaikan berat badan bayi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Purata berat lahir – 2.7 kg hingga 3.4 k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905120"/>
          <a:ext cx="8229600" cy="4200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M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 - 4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ggu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8 -0.24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mlah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- 8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2 - 0.15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– 12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9 – 0.12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36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5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inggi / panjang bayi &amp; kanak-kana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njang purata semasa lahir ialah 50 c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1981080"/>
          <a:ext cx="8229600" cy="4419720"/>
        </p:xfrm>
        <a:graphic>
          <a:graphicData uri="http://schemas.openxmlformats.org/drawingml/2006/table">
            <a:tbl>
              <a:tblPr/>
              <a:tblGrid>
                <a:gridCol w="2286000"/>
                <a:gridCol w="3200400"/>
                <a:gridCol w="2743200"/>
              </a:tblGrid>
              <a:tr h="110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M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 - 4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ap- tiap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mlah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– 12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8 bula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9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– 2 tah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12 bulan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5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– 4 tah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24 bulan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2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5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22:26:12Z</dcterms:created>
  <dc:creator>KSKBKK</dc:creator>
  <dc:description/>
  <dc:language>en-US</dc:language>
  <cp:lastModifiedBy>User</cp:lastModifiedBy>
  <dcterms:modified xsi:type="dcterms:W3CDTF">2007-03-20T04:27:21Z</dcterms:modified>
  <cp:revision>16</cp:revision>
  <dc:subject/>
  <dc:title>PENILAIAN PEMBESARAN KANAK-KANAK:</dc:title>
</cp:coreProperties>
</file>