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82F6-05B1-478C-93EB-E2732560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F98-A6FF-4FF9-A66C-712D0B09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E2D-692D-4B5C-B95F-94579C3E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B03-2A2E-4DA8-8482-C4E59284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1F0D0-116F-4DEF-A298-949DB089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C0A37-F924-436C-B632-659B139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F4DC1-D518-4C3C-A735-37E0958F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F990-2F3E-4969-89E7-2793B7D3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D5187-DA9D-448A-A340-AD1C685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7E4FE-35E5-4042-9DE2-8A73DF09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20B18-F49D-40A3-BC4B-FE9659E0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9B6-4F29-4F54-B774-60AF9DA9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BF9E8-8C6F-43C6-A3BC-A38857AC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ECD31-D1BE-4708-8E7A-8067353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026AA-60EB-456E-891F-955702B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43F9B-E5C9-43E0-80F2-DD324D3B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D87E8-AA8A-486E-802B-A8FB2D59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2B7-5685-4FD1-BE1B-38C30A1C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6B8-7157-466A-B443-EE3E80AD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421-402A-45C6-976C-9926483D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2B1-7818-4F07-9942-DE1F7298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B4D-759F-47DA-8A9C-A98C7E3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B24-8192-40A9-9781-59C6433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CC8-DBAD-4F0E-9D70-62CCD6FC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5755-BC48-4200-83EB-3F931501D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829E-BE4A-4F97-B96C-57DEB6E33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ILAIAN PEMBESARAN KANAK-KANAK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22856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ediakan oleh : Pn Josephine 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tuk Pelatih    : N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hu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: 200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ggaran kasar penambahan panjang lahi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1 tahun – panjang anak bertamba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50% panjang lah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4 tahun – Tinggi  anak 2 x gan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 lah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5 tahun – Tinggi  anak ak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bertambah 5cm tiap-ti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hun sehingga dewas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kurlilit Kepala (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ad Circumfer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lilit kepala dikaitkan dengan isipadu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a memberi gambaran tentang pembesaran dan perkembangan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iz badan pada keseluruhannya mesti diambil kira jika ukurlilit kepala digunakan sebagai panduan untuk menilai perkembangan ot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lilit kepala juga penting untuk mengesan awal 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ydrocephalus,microcephalus,craniosteno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kurlilit kepala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ata ukurlilit kepala semasa lahir ialah 34.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bayi 6 bulan pertama, ukurlilit kepalanya  lebih besar daripada dadany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bayi 9 bulan saiz otaknya adalah separuh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anak 2 tahun, otaknya adalah ¾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da umur anak 10 tahun, saiz otaknya adalah sama dengan saiz otak orang dew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nduan penambahan ukurlilit kepala bayi &amp; kanak-kana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aan ukurlilit kepala lebih significant jika diambil sebelum anak berumur 2 tah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2362320"/>
          <a:ext cx="7924680" cy="411948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 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ambahan dalam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–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4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8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63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12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2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kurlilit dada (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hest circumfera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asa lahir ukurlilit dada - purata 33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asa bayi berumur 5 - 6 bulan ukurlilit dada dan  kepala adalah hampir s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pas bayi berumur 6 bulan dada membesar lebih pesat daripada kep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ka ukurlilit dada dan kepala masih sama besar selepas bayi berumur 6 bulan, bayi mungkin mengalami kekurangan zat makanan,selepas 1 tahun ,bayi mungkin mengalami hydrocephal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matangan tulang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sifikasi /pembentukkan tulang bermula dalam rahim semasa janin berumur 5 bu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lsifikasi tulang boleh digunakan sebagai index pembesaran melalui x’ray untuk melihat ketebalan dan bentuk tula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ifikasi tulang bermula selepas anak lahir hingga rem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es ini bermula dipusat ossifikasi dan terus ke bahagian tulang yang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sifikasi tulang bergantung kepada sekresi hormon thyroxine di mana kekurangnya akan membantutkan pertumbuh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ertumbuhan Gig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tumbuhan gigi bermula semasa umur janin 3 bulan dalam kandun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a erupsi gigi bergantung kepada kesihatan, keturunan dan di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sunan pertumbuhan lebih penting daripada umur erupsi kerana ia boleh menyebabkan maloklus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upsi gigi bermula dengan incisor pada 6-8 bulan dan lengkap dengan molar kedua pada umur 2 –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/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h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uan mengira umur yang tidak diketahui dengan menggunakan kiraan erupsi gigi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langan gigi + 6 = Umur anak dal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kin fold thicknes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tebalan kulit diukur dengan menggunak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alip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at – tempat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ng biasa diukur adalah disebelah kiri tubuh dibahagian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ric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b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bdome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dual menimbang berat badan kanak-ka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905120"/>
          <a:ext cx="8229600" cy="4971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 kebawa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 kea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-6 bulan = setiap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-4 tahun = 6 bulan sekali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-12 bulan = 2 bulan seka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-6 tahun =  setahun sekal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-2 tahun = 3 bulan sekali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dual mengambil ukuran panjang, lilitan dada &amp; kepal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914400"/>
          <a:ext cx="8305920" cy="5697360"/>
        </p:xfrm>
        <a:graphic>
          <a:graphicData uri="http://schemas.openxmlformats.org/drawingml/2006/table">
            <a:tbl>
              <a:tblPr/>
              <a:tblGrid>
                <a:gridCol w="2819520"/>
                <a:gridCol w="274320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ran panja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kuran tingg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litan kepala &amp; dad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ktu lah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ktu lah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st visit to cli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– 6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tahun sekal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st visit to cli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 bulan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ktif Spesifik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definisi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definis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thropome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i keadah- keadah pengukuran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yatakan purata berat lahir, panjang lahir, ukurlilit kepala &amp; ukurlilit d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yatakan anggaran kasar penambahan berat badan,  panjang, bayi &amp; kanak-k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hargai kepentingan mengambil anthropometry untuk bayi dan kanak-k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si Pembesara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embesar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mbahan dalam saiz badan yang menghasikan perubahan struktur &amp; fung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nthropome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kuran-ukuran fizikal dan komposisi tubuh pada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seluruhan cth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craniometry,osteometry,skin fold thicknes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t badan &amp; ukuran panjang / tingg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eadah – keadah mengukur Pembesar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at badan ( Weight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Panjang/ ting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lilitan kepala (head circumfer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kuran lengan (arm circumfer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kin fold thick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tumbuhan gi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matangan tul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Ukuran Berat badan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lah satu keadah yang paling baik untuk menilai pembesaran ana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kuran – ukuran  yang diambil dalam jangkamasa yang tetap boleh di jadikan sebagai index pembesaran atau kegagalan pembesar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abila berat badan anak itu menurun,ini menunjukkan bahawa anak itu mungkin mengalam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) Kekurangan pengambilan makana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zat protin dan kalor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) mengalami jangkitan yang kroni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ggaran kasar berat badan kanak- ka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5 bulan – akan 2 x ganda berat lah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12 bulan – akan 3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24 bulan – akan 4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ur 6 tahun – akan 6 x ganda bt w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pas anak berumur 2 tahun hingga remaja, purata kenaikan berat badan ialah 1.9 – 2.2 kg setiap tah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 mengira berat badan anak 1 th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atas 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umur dlm thn + 3) x 5 =     l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nduan kenaikan berat badan bay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Purata berat lahir – 2.7 kg hingga 3.4 k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905120"/>
          <a:ext cx="8229600" cy="4200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-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ggu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8 -0.24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- 8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2 - 0.15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9 – 0.12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6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5 k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nggi / panjang bayi &amp; kanak-kana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jang purata semasa lahir ialah 50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981080"/>
          <a:ext cx="8229600" cy="4419720"/>
        </p:xfrm>
        <a:graphic>
          <a:graphicData uri="http://schemas.openxmlformats.org/drawingml/2006/table">
            <a:tbl>
              <a:tblPr/>
              <a:tblGrid>
                <a:gridCol w="2286000"/>
                <a:gridCol w="3200400"/>
                <a:gridCol w="2743200"/>
              </a:tblGrid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MU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 - 4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ap- tiap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mlah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– 12 bu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8 bulan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9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– 2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12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– 4 tahu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 24 bulan 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2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5 c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2:26:12Z</dcterms:created>
  <dc:creator>KSKBKK</dc:creator>
  <dc:description/>
  <dc:language>en-US</dc:language>
  <cp:lastModifiedBy>User</cp:lastModifiedBy>
  <dcterms:modified xsi:type="dcterms:W3CDTF">2007-03-20T04:27:21Z</dcterms:modified>
  <cp:revision>16</cp:revision>
  <dc:subject/>
  <dc:title>PENILAIAN PEMBESARAN KANAK-KANAK:</dc:title>
</cp:coreProperties>
</file>